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F0B-AD50-4B27-B5C3-C69AFA27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B95-10DD-4CD8-8DD3-1693C9E2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693-9455-4819-993A-F3E0F68A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19E-4ACA-4AC4-8445-D43728B4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D5F3-6F9A-464F-9B4A-3B669477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8D35-D38D-48A8-A7AB-7A9266CF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6723-C958-497D-8F1E-3172CE4E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7DAF-1BCF-4AE6-856B-9C076FCE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99A2-35C5-4871-9319-1F6F2F1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07F-9555-4FD2-A5A3-B57E3E08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63C9-CAE3-4929-BDC3-979BAA2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161-82C2-471B-8CCF-557CB0E6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F48-46A4-451C-A3F1-DEB9E2FB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3941-776B-47DC-963E-3A78D46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627B-72BD-43E1-94E9-77E953F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714-B650-47AD-81C4-FF0F674E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C52-D919-4D45-95AF-61B73621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635C-5A10-42F9-A76A-58D998E1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2F73-C547-4A9C-B64D-0BA83A4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E1F6-8869-4EF9-B6A9-B3EDD5D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83A9-AE41-4595-8F27-5FA15A8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C148-89DE-4242-83B1-48055089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D46-E94D-4C94-AC88-A263F04B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2DB6-E449-46B7-A330-4134EF68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1605-229F-4DD1-A4EE-2A20035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88EC-9BAC-47C7-A7EF-4342A084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BF0A-4684-400B-B299-1B57B76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C2CD-CE5B-433A-A5CB-736516F4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E4CA-9669-49C3-B442-D34E3951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29DD-5D2C-45E2-B930-87458DDB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9CA1-FC8D-4671-8035-7DA63F0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EA3D1-7AE6-4BBD-BCA9-A1674BF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3830-634C-4841-8A93-80A0934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D33-EDBF-48D5-B1C0-321D9A42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F074-564C-412C-8033-8084E70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817C-A0C2-4FCC-BA1C-9ABF9BB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6BA4-35BF-4C3E-8370-8D82018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60DB-E3FD-4F51-8ABC-D47AD79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D7AE-9745-44EE-80A7-E7CFDB11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587B-4DC2-4D23-A52A-FE6E6C8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DE8F-36A9-4336-B6C9-2FF31222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62BF-CEE4-4947-9A9B-061C11C5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FC29-D4E3-4122-AF6F-B53420AE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9BA7-5B2E-4188-9EFE-E27C65CE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3D2-49C1-40A8-A9D1-8E661C4F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CD18-2986-4F74-81AA-DFC915B5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D8C9-7AD9-47E2-B314-32F1617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3E4E-1C46-40BE-B8BA-82929648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304E-CAF1-4B92-87AC-BF6A3244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671C-CC78-464B-966E-DDEF253C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3C35-53C2-4685-8AB8-5445C1F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E2B7-6D02-4FF6-BB20-D407BC6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FF37-8C86-4DB5-909B-4B7DEC1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2494-AD21-4911-8AAC-D5894C36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9750-52AA-46AC-9A65-F123DE81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B93-15D8-4F2E-BC6E-BFF4B4B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3F60-D218-4669-98EA-DBC9E01F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0E4C-B8E6-4033-8D8F-E74FF22D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5159-85D0-4366-8BAC-2A3B3460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BE71-F1D3-40F3-9FEE-635FAFE9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CB08F-0930-44FC-9DE2-97082A35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6089-4A55-4AD3-BF47-3C7903A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CEF0-0A08-46A7-B371-CDED31D9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8CB4-F41D-4B7F-8C2C-A346A02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B9A0-78C9-41B2-B8E0-42598DC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94F3B-A2B2-4684-8D6C-A8CA888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825-6D20-4D41-94FC-1ADF7C3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A6DA-46D8-4273-B0C1-91C045E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C0BA-F47D-43FF-9BCF-43EE1D18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3096-BFEA-4554-9D00-B861440D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BE4C4-9C0D-47C4-82D7-4EDF0D0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DFDC2-EEB1-4AF9-A565-A55DA04C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8D69-C7FA-4006-9DA2-812F021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F17B-61B4-4DA8-A80D-617D8FDB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459AB-37D0-4AD7-AB8D-584DA5E7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45E9-7EBC-421D-8EA4-D0C2353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8AD7C-811E-4A70-85EC-298F8FD0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222-95BA-4449-A6E1-88D5B29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E16E-38D6-4225-8FA4-92848D6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BD631-E44A-4491-BDA6-3B8E45A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C46B-5D3F-4211-BC6D-C7B1EB3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875D-216A-4760-BF69-4181309D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2927D-D95A-4B45-82A9-4FBFFEB7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03E-A9C4-424F-807A-39A77B67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AF6B-6776-4C0A-AF6A-BF00C78851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2E2C-0B17-4FE8-B7F1-FD93951002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E91-C398-479A-87EE-1E377AFC6B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3CF-6749-4D66-BC75-C9A5856B63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7CCF-7232-4B1E-9488-D274583CB4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667-5765-41A0-827C-897038753E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5262-8D83-496E-BE88-729EA77665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060560" y="1500120"/>
            <a:ext cx="8083440" cy="1955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1476360" y="11592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835280" y="551664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3"/>
          <a:stretch/>
        </p:blipFill>
        <p:spPr>
          <a:xfrm>
            <a:off x="1547640" y="3500280"/>
            <a:ext cx="1368720" cy="172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4"/>
          <a:stretch/>
        </p:blipFill>
        <p:spPr>
          <a:xfrm>
            <a:off x="4211640" y="364500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5"/>
          <a:stretch/>
        </p:blipFill>
        <p:spPr>
          <a:xfrm>
            <a:off x="7020000" y="3213000"/>
            <a:ext cx="1457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эльдорадо</cp:lastModifiedBy>
  <dcterms:modified xsi:type="dcterms:W3CDTF">2020-05-06T17:24:14Z</dcterms:modified>
  <cp:revision>9</cp:revision>
  <dc:subject/>
  <dc:title>ПРАВИЛА ДОРОЖНОГО ДВИЖЕНИЯ</dc:title>
</cp:coreProperties>
</file>